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E0C-D3F1-41FC-AB4D-879F4948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44E-1A31-4083-A6B0-862EFF43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3DA-F0C2-41D4-9980-86927DFC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286-391D-41AC-8867-ADE13721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411E-FE66-410B-95EB-355D0548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9B92-CA6C-48A9-83ED-E7CA9EFA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4AEE-A1DE-406D-8CEF-565138B2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5282-5258-4F4B-8CE9-1C403B7B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7F1F-7E40-412E-B42B-6670E38D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939C-7A24-4B5D-BFC0-ECB81AB5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239D-B9CD-45A3-BE34-4E3354D2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B6C-0721-4F01-99E7-40A04E8A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E920-F98E-4FA9-8C2E-1B9502AC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072E-6259-4349-B377-828BE59F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057C-B189-4444-964F-95F2C4FF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539B-A61C-48CC-A083-954DC780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A281-CFF9-443C-8A25-76AA7F95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D792-2701-4F10-AB40-9690E130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1C15D-01D4-4E8B-ADDD-8DF994C4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0BE8-F8E7-490C-AD2B-5C644E89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C307-FDF7-4C6D-81FF-0F0C6D1D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ED805-121A-4A73-A737-038CE780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872-9C78-4E2C-8802-BC32D799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FD4A8-96E0-47D4-9796-D7F7F19B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DF65-9DB3-42FA-8C79-A3BCC0A2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F673A-90C1-4566-B201-1103A3B7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E8EA-F529-46FC-A075-555FA963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D9AE-61C2-4D63-8EB3-2C23E115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0497-0AEC-4B55-8D86-DCC8F735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730C-5234-4EA4-A9E7-CC7DA1B8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70C5C-E81F-4E2D-86C1-0BAEFFBE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6A20-A9BA-4F9F-95F4-ACA500AF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DC976-CF80-4080-8C56-9B4D11F3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3D6-EB13-41CA-8A6F-67F5456F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8914B-FC00-4139-8CB1-DFE6DE98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9AD7-8E08-405D-88AB-535C13CD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41DD-CE38-4507-BD61-05FC5A8A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C324-06F5-48FA-9540-D97C3F6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29B3D-15FD-403E-857E-4C202A32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55DF-B38D-4C93-9F85-A62C9D79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0339-30E1-4491-A7C8-47E6B1E6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F84CF-933A-4912-A97E-FB2B19B7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37B17-9046-4319-870F-4ABC14AE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9FF4A-8C4F-4ACB-A16C-2C8B94CD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C03-FBA7-482C-972B-BE256E82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BB7B-C7C8-4604-83B4-8C61741C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1F1AA-59C8-4FF6-A904-33368EFB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CE346-CCB9-4B70-9506-F269F8FA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AE8F2-6383-477E-AAFF-6ED637A9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20F3B-B6DB-4F6A-9A14-2B24C587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41E22-BCDD-4C52-BC35-08D12AE2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4F28A-D78E-49D8-84BD-D85C6C8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7A870-61DE-4DC9-9634-D5428E6A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A9435-C4B2-48EA-A9CF-74B9478A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B7B91-8114-491A-9064-A1AAD44E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96D-D5A9-4F03-AFF6-ADF0BCCE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BF2AC-5F5E-4FBB-9E6C-EE8395F8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382-976E-49FA-84D9-9994A8EB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3FA-4567-4A9F-B88D-2BE5BE6C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2F1-8A6B-4C74-A345-63E5F273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BA72-D4C1-4E44-83E3-87FF7AC1FE8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19D6-A716-4E55-A606-2106DEF678E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82B0-66E2-4951-AC56-43DE18888E6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EC58-5D33-4532-A1B2-548EACC705ED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31C2-6B20-4535-B382-39105F9DE27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ET 50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Visual Introduc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5200560" y="1139760"/>
            <a:ext cx="3625920" cy="20671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hnston City, Illinois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1407 Davis Street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hnston City High School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hn A. Logan Colleg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085760" y="1390680"/>
            <a:ext cx="33148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5200560" y="1139760"/>
            <a:ext cx="3625920" cy="2067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My #1 Fan!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Grandpa Jo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Without him this would impossible!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1085760" y="1616040"/>
            <a:ext cx="29196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lvl="4" marL="18288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5897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t Collins, C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osc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n Thom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kund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5" descr="C:\Users\Tasha\Pictures\2009-10-18\396.JPG"/>
          <p:cNvPicPr/>
          <p:nvPr/>
        </p:nvPicPr>
        <p:blipFill>
          <a:blip r:embed="rId2"/>
          <a:stretch/>
        </p:blipFill>
        <p:spPr>
          <a:xfrm>
            <a:off x="6324480" y="4114800"/>
            <a:ext cx="1752840" cy="1284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3"/>
          <a:stretch/>
        </p:blipFill>
        <p:spPr>
          <a:xfrm>
            <a:off x="4137120" y="2362320"/>
            <a:ext cx="1806480" cy="1523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4"/>
          <a:stretch/>
        </p:blipFill>
        <p:spPr>
          <a:xfrm>
            <a:off x="6324480" y="2362320"/>
            <a:ext cx="1752840" cy="1523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Users\Tasha\Pictures\2009-10-18\396.JPG"/>
          <p:cNvPicPr/>
          <p:nvPr/>
        </p:nvPicPr>
        <p:blipFill>
          <a:blip r:embed="rId5"/>
          <a:stretch/>
        </p:blipFill>
        <p:spPr>
          <a:xfrm>
            <a:off x="4114800" y="4114800"/>
            <a:ext cx="1905120" cy="1284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C:\Users\Tasha\Pictures\2009-10-18\537.JPG"/>
          <p:cNvPicPr/>
          <p:nvPr/>
        </p:nvPicPr>
        <p:blipFill>
          <a:blip r:embed="rId6"/>
          <a:stretch/>
        </p:blipFill>
        <p:spPr>
          <a:xfrm>
            <a:off x="4114800" y="762120"/>
            <a:ext cx="1778040" cy="1295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C:\Users\Tasha\Pictures\2009-10-18\537.JPG"/>
          <p:cNvPicPr/>
          <p:nvPr/>
        </p:nvPicPr>
        <p:blipFill>
          <a:blip r:embed="rId7"/>
          <a:stretch/>
        </p:blipFill>
        <p:spPr>
          <a:xfrm>
            <a:off x="6324480" y="762120"/>
            <a:ext cx="1752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riends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nowboard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mp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us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C:\Users\Tasha\Pictures\2009-08-26\093.JPG"/>
          <p:cNvPicPr/>
          <p:nvPr/>
        </p:nvPicPr>
        <p:blipFill>
          <a:blip r:embed="rId2"/>
          <a:stretch/>
        </p:blipFill>
        <p:spPr>
          <a:xfrm>
            <a:off x="5791320" y="518148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3"/>
          <a:stretch/>
        </p:blipFill>
        <p:spPr>
          <a:xfrm>
            <a:off x="4343400" y="3581280"/>
            <a:ext cx="3193920" cy="1295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C:\Users\Tasha\Pictures\2009-10-18\534.JPG"/>
          <p:cNvPicPr/>
          <p:nvPr/>
        </p:nvPicPr>
        <p:blipFill>
          <a:blip r:embed="rId4"/>
          <a:stretch/>
        </p:blipFill>
        <p:spPr>
          <a:xfrm>
            <a:off x="4419720" y="304920"/>
            <a:ext cx="2895480" cy="1322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C:\Users\Tasha\AppData\Local\Microsoft\Windows\Temporary Internet Files\Low\Content.IE5\LECOVS6Z\0418091436[1].jpg"/>
          <p:cNvPicPr/>
          <p:nvPr/>
        </p:nvPicPr>
        <p:blipFill>
          <a:blip r:embed="rId5"/>
          <a:stretch/>
        </p:blipFill>
        <p:spPr>
          <a:xfrm>
            <a:off x="4876920" y="182880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Tasha\Pictures\2009-11-03 Phish Festival 8\Phish Festival 8 066.JPG"/>
          <p:cNvPicPr/>
          <p:nvPr/>
        </p:nvPicPr>
        <p:blipFill>
          <a:blip r:embed="rId6"/>
          <a:stretch/>
        </p:blipFill>
        <p:spPr>
          <a:xfrm>
            <a:off x="3276720" y="5181480"/>
            <a:ext cx="20574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9:56:00Z</dcterms:created>
  <dc:creator>Tasha</dc:creator>
  <dc:description/>
  <dc:language>en-US</dc:language>
  <cp:lastModifiedBy>Tasha</cp:lastModifiedBy>
  <dcterms:modified xsi:type="dcterms:W3CDTF">2009-12-11T06:01:31Z</dcterms:modified>
  <cp:revision>26</cp:revision>
  <dc:subject/>
  <dc:title>Tasha Tolbert</dc:title>
</cp:coreProperties>
</file>